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D57-ED5C-4835-8D72-B670DEAF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C68-5B59-4822-9DAE-775628AF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EDD-4788-4BA0-9C7B-FACFC648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E7C-02D1-4821-AF26-61079F0F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58D-6C40-49C7-903D-5416C3DC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394-38EB-4581-9EB5-7D82C7F5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4F6-6B2D-4C99-A983-E5040BC6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4A0-0221-4C9D-A3F1-2755BAD4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E7C-1293-420D-AEC1-CF898033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8CC-5773-44A8-843F-042E7BEB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50E-2910-4563-9812-7888CB0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B4E-4762-4F09-9695-CEEF4846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4A5B-857A-4897-985E-61B82B2D4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04A-820C-4915-A9B2-DCA30457C3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440" y="268200"/>
            <a:ext cx="71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n author, what kind of story would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b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752480"/>
            <a:ext cx="5919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ounds and smells can you ima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part of this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ader could imagin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hts, smells and sounds that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mag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ds would you use to descri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d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55888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AF7-BF59-4408-941A-DE218E8BAF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50496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39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360" y="4114800"/>
            <a:ext cx="3961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Little Ita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Francis Speight, American, 1896- 198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54” x 6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29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s:  Francis Speight was born in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olina.  He served as Artist in Residence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 Carolina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3040" y="4114800"/>
            <a:ext cx="320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Building Socie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Thorsen, Connie, America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n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56” x 38” x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583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920" y="586728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62720" y="914400"/>
            <a:ext cx="20984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367-3B3F-4F2E-B37F-7D703293ACB4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943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510080"/>
            <a:ext cx="8381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 and Language Arts:  setting, main idea and details, comp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ntr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:  space, rural, suburban and 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:  space, shape, color, perspective,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:  observation, identification, evidence, light, shadow, s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353040" cy="298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867280" y="990720"/>
            <a:ext cx="199728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0C0-1639-4C08-A189-E1C8762631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657600" cy="325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920" y="115920"/>
            <a:ext cx="81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 few minutes to observe this painting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1240" y="4002120"/>
            <a:ext cx="816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descri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jects 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c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redict if the setting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ban, suburban or ru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F49-0607-4E5F-9663-9B23F474F1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657600" cy="325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343400"/>
            <a:ext cx="8305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figure out how the painter does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w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d at the 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ge. Is it near or f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obj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trees.  W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ones that seem far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examples of one object hiding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p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 of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.  Which object appears farther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40040" y="115920"/>
            <a:ext cx="87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ugh paintings are flat, some parts look far aw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other parts seem to be very c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F91-A617-4C53-B140-5BBC4E6E7A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3657600" cy="325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3800" y="304920"/>
            <a:ext cx="80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focus on light, shadow and color in the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911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he sun may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redict the time of day?  Why do you think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Does it look like winter, spr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r or fall?  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re in the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D6B-C487-4572-B2F0-EB58DFC621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42480" y="4648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04920"/>
            <a:ext cx="77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let’s look at a very different paint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152388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sha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and far away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7879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A49-7F6F-4352-B242-EFA0805789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5480" y="30492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discover in this painting ab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160020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, present or futur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ban, suburban or rural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9440" y="4038480"/>
            <a:ext cx="50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oint out 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ovide information about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ent, country or re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n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22416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AB8-BD0D-47E5-9F45-3789EC4E50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429000" cy="305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228600"/>
            <a:ext cx="733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look at these paintings side by side we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00" y="4191120"/>
            <a:ext cx="791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that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ach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tha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ainting is more like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ooks like a place where you would choose to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08560" y="990720"/>
            <a:ext cx="2048040" cy="30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C5D-6B52-4902-89F9-DBB2E298BB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982800"/>
            <a:ext cx="3581280" cy="3190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4240" y="11592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were going to write a story, which painting 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like to use as the setting for your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2160" y="4290840"/>
            <a:ext cx="7806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kind of story could you write using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r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t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uld it be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aginative narr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n-fi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 mystery, an advent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ould you describ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o your readers cou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ine just what you see in the pain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62720" y="990720"/>
            <a:ext cx="214920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838-B002-46A8-85BC-22C102E3807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7T09:58:29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